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593-03E1-436C-99DC-15AB1DEA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BCF-8869-4357-BC0A-F34AFBB8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5EC-3B3D-4DE3-9543-1E801845F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4C2C-B994-42C9-B84E-2C0143C3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EC0-828E-4C31-AB5C-F73D5B13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683-548F-4C26-B828-B86E565B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994C-E664-4239-BAB8-9EE2904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3E2A-BFB8-4D96-925E-F70E7B62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616-8690-48AF-BB29-3F7BFBBF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C5F-99CA-4FBF-B921-A40E7D5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08B-BEFD-4C49-9DB1-78F1AFF7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6C5-746A-4DB5-8A9A-6D1D4078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F2D-B15C-4B93-8C0E-F0658F6FA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404640"/>
            <a:ext cx="6400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Tiny, bl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Creative, fun, no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He likes doing puzz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My bu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86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vie"/>
              </a:rPr>
              <a:t>B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Senio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24:55Z</dcterms:created>
  <dc:creator>Admin</dc:creator>
  <dc:description/>
  <dc:language>en-US</dc:language>
  <cp:lastModifiedBy>Admin</cp:lastModifiedBy>
  <dcterms:modified xsi:type="dcterms:W3CDTF">2009-03-09T22:31:09Z</dcterms:modified>
  <cp:revision>3</cp:revision>
  <dc:subject/>
  <dc:title>Slide 1</dc:title>
</cp:coreProperties>
</file>